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8230-11A1-4BF8-AE1E-6E1DE03E9A87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FB06-4A40-4509-AA00-02FFD0545A91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7503-4828-4D35-A5DB-7610D744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042-0487-4798-8BC4-57292980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61F-5455-4017-A26D-58265C83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176-01EF-4BA5-A328-A4FA6B9F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80D8-F9C2-41BF-84D3-3532D509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0C7C-756C-46B6-9FA7-C5956ADB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F7DD-1FA6-4E76-9B97-3CDD08AD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3C6D-AC66-48A7-AD2E-E9F1A2B0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569B-0744-46A2-A19C-A6F70FC9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51A0-85AC-4C07-8164-654BDD0F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180D-FAA3-4B50-8149-90235126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C60D-8049-412E-A10A-E80423D0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A7B5-D67C-4B68-95C2-B5787D71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C01B-4AC6-4AA5-B615-5F692773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012C-BDB2-4350-944B-E6584AD8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0F87-CF38-4FCD-8116-E3431910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70A6-B1D2-4FCF-89E7-CCBACBE8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5FCB6-3192-412F-B3B1-E3582D40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EA1FB-B0B7-45DC-9D49-FAC6AC77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5B0D0-AC43-4105-88CC-9290DF1B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8F410-DECC-44B3-B941-259AE7D1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63E40-6B51-4865-B963-5E755A67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EA4-65B2-483A-8C3F-C40F104F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66A30-D5B5-40C1-AC24-5588E973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3C9DA-7FE2-48F9-B6A7-84F60C95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9E1F5-6A32-4675-9539-1A41508C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8FE03-F379-48FB-AF69-053C3E3F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24B5E-AC60-4A74-9941-4726B3D5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DBD9A-ACCE-4CFB-8357-083F9AEC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E3D33-3208-4544-AC5D-EB1C2576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3AFBC-9102-4C3D-9C4F-E51AF603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C9C95-4C76-4E23-AC78-7C1F54F8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BBBF0-5BAF-4FA5-BEE9-5F3B447E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FA83-3574-4B90-B51F-1C194350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B397F-0A80-4D3F-B68D-2EBC8A17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8DDD6-69D8-4DEA-B845-F87E3C8A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CCB2F-64D5-41ED-BE2C-958F4EF6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8710E-5EA9-40C7-AB79-705F168D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697B3-8AA9-40E2-8020-6E446A44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799F2-4479-4BD8-B38D-49053245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46E36-565C-4CE8-9704-2E55E7F5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0CE85-F178-450F-B803-D2B0CA8F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E0AB2-A7EB-4D0A-A970-ADED7FF7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8E782-8E62-40F3-AB58-31663D25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354-CC3F-4E73-81DD-0C1717A6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223B2-53FD-4E8D-A6BA-09A7B8E6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9882F-1EBB-4225-86F1-5AB5F231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CA017-051A-47A8-8B01-75AF719F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BBFF5-45E8-43D7-B069-C82D6A6F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DBA17-9458-4699-8140-A8F675B3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99B61-EC0F-4853-8E1A-71C60B22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803D7-CA81-4DEE-81DA-0197EC9C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C136B-9B54-440D-880B-51A2E753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C8065-86A8-4C74-9FD4-D63CD7CD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E9CE2-5E45-4A1E-8CC1-2AC3A129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7F3E-3558-4DA5-AF5C-C83EC8E3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ED1CF-3C7D-496E-9BBB-80CA2373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BCBB0-8AD4-4AB9-A581-3E1758AD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57588-FFF5-42FD-9E3D-54AEA8D0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F88B5-37A5-413A-ADDF-9D73B847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AE95D-A5B7-4008-A9C2-698771CA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1450E-D416-4C4C-8199-505DEBDA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2946A-6755-46BD-9360-68CB168B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1E7F0-6484-4004-BB56-9C6D142A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34A6B-83ED-4746-B457-1DC64475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CBC48-3EB4-4228-B18E-48C55009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8E69-55B3-42F6-BC6A-AF2F8517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21AD0-7F9F-4F4A-9618-31B26A90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160CE-E370-4B77-8D99-9BA76634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6FE75-7F53-4B9D-8911-C9FEC4EF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DE888-782A-4411-AEFB-179B1F23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54A01-CE74-46CA-AA78-EC96BC01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082DE-40A7-49CC-BAA1-CDBB42A3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388D3-A453-44C2-96EC-2F46F95B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D4AF9-BDE9-41AF-9664-E3D28AA1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4F4A7-46D6-497C-9A7C-2DFD49C5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BDBF8-BB74-43D8-9316-318F7AC3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263-4007-4CE8-B4A2-B66DCA3D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19BB1-1950-4839-B1A5-5B243EE2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02C55-5EBA-46DF-A21E-EF89C37D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DD521-ECBB-45A1-B5CF-D0C19C26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7E5C6-9605-4F4A-8C91-BD4A9AE1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DEA52-7345-44F7-8C2F-26E36DB0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66ED-1CF6-4C20-837A-02A3CC3C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CB96-03F1-446F-82B5-323FB2E0DDBA}" type="slidenum">
              <a:rPr b="0" lang="ca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938B-58A0-4E3E-8592-58A5B87A93DD}" type="slidenum">
              <a:rPr b="0" lang="ca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042A-8338-4DFC-B356-5751B948CE56}" type="slidenum">
              <a:rPr b="0" lang="ca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6BE7-FE09-4AAD-8CCA-693AEF98F1B6}" type="slidenum">
              <a:rPr b="0" lang="ca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7AB2-97F8-488B-99D5-1738401CD991}" type="slidenum">
              <a:rPr b="0" lang="ca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296B-457E-4465-9673-31A142759E12}" type="slidenum">
              <a:rPr b="0" lang="ca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EB1C-2F54-4E64-8E77-84D7298E80D1}" type="slidenum">
              <a:rPr b="0" lang="ca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121428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572314"/>
                </a:solidFill>
                <a:latin typeface="Gill Sans MT"/>
              </a:rPr>
              <a:t>ANTONIO  MACHADO</a:t>
            </a:r>
            <a:endParaRPr b="0" lang="en-US" sz="4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857160" y="278604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320e04"/>
                </a:solidFill>
                <a:latin typeface="Gill Sans MT"/>
              </a:rPr>
              <a:t>“ </a:t>
            </a:r>
            <a:r>
              <a:rPr b="1" i="1" lang="ca-ES" sz="2600" spc="-1" strike="noStrike">
                <a:solidFill>
                  <a:srgbClr val="320e04"/>
                </a:solidFill>
                <a:latin typeface="Gill Sans MT"/>
              </a:rPr>
              <a:t>Antologia de poemas de Machado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8 CuadroTexto"/>
          <p:cNvSpPr/>
          <p:nvPr/>
        </p:nvSpPr>
        <p:spPr>
          <a:xfrm>
            <a:off x="7215120" y="62866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Gill Sans MT"/>
              </a:rPr>
              <a:t>Eliana Benavent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572314"/>
                </a:solidFill>
                <a:latin typeface="Gill Sans MT"/>
              </a:rPr>
              <a:t>Comentario de texto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429000" y="21430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Comenta tres poemas diferent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Bar dir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A un olmo se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600" y="1523880"/>
            <a:ext cx="335124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l olmo viejo, hendido por el ray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en su mitad podrido, co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las lluvias de abril y el sol de may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lgunas hojas verdes le han salido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¡El olmo centenario en la colin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lame el Duero! U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musgo amarillen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le mancha la corteza blanquecin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l tronco carcomido y polvoriento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No será, cual los álamos cantor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guardan el camino y la riber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abitado de pardos ruiseñore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jército de hormigas en hiler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929120" y="150012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va trepando por él, y en sus entraña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urden sus telas grises las araña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ntes que te derribe, olmo del Duero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on su hacha el leñador, y el carpinter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te convierta en melena de campana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lanza de carro o yugo de carreta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ntes que rojo en el hogar, mañan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rdas en alguna mísera caset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l borde de un camino; antes que t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scuaje un torbellin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tronche el soplo de las sierra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blancas; antes que el río hasta la mar te empuj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3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3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428480" y="642600"/>
            <a:ext cx="7497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te poema se centra en la descripción de un olm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ransmitir la pena que da el árbol agonizante, que ya es viejo y pronto será destruid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tema principal es la descripción sensible y patética de un viejo olmo, del cual resurge su vida gracias a la primave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 primavera tiene un doble significado, refiriéndose metafóricamente a la juventud, fresca y vit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parecen hipérbaton, aliteraciones, anáforas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Retrat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600" y="1523880"/>
            <a:ext cx="35658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Mi infancia son recuerdos de un patio de Sevill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un huerto claro donde madura el limonero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mi juventud, veinte años en tierras de Castilla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mi historia, algunos casos que recordar no quiero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Ni un seductor Mañara, ni un Bradomín he sid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-ya conocéis mi torpe aliño indumentario-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más recibí la flecha que me asignó Cupido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amé cuanto ellas puedan tener de hospitalario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071680" y="1523880"/>
            <a:ext cx="386244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ay en mis venas gotas de sangre jacobin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ero mi verso brota de manantial sereno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, más que un hombre al uso que sabe su doctrin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soy, en el buen sentido de la palabra, bueno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doro la hermosura, y en la moderna estétic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orté las viejas rosas del huerto de Ronsard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mas no amo los afeites de la actual cosmétic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ni soy un ave de esas del nuevo gay-trinar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428480" y="357120"/>
            <a:ext cx="749772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achado nos cuenta su vida desde su infancia hasta ese “último viaje” que será su muerte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poema es una autobiografía del poet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 descubre así a un “hombre bueno” que ha querido dejar tras de sí una obra importante y quiere partir libre “como los hijos de la mar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parecen metáforas, paralelismos, anáforas, comparaciones entre otras figuras retóric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i="1" lang="ca-ES" sz="3900" spc="-1" strike="noStrike">
                <a:solidFill>
                  <a:srgbClr val="572314"/>
                </a:solidFill>
                <a:latin typeface="Gill Sans MT"/>
              </a:rPr>
              <a:t>He andado muchos caminos…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e andado muchos camino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e abierto muchas veredas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e navegado en cien mare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atracado en cien ribera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n todas partes he vist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aravanas de tristez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soberbios y melancólico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borrachos de sombra negr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pedantones al pañ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miran, callan, y piensa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saben, porque no bebe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l vino de las taberna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Mala gente que camin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va apestando la tierra..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714920" y="1571400"/>
            <a:ext cx="3657600" cy="46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en todas partes he vist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gentes que danzan o juegan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uando pueden, y labora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sus cuatro palmos de tierra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Nunca, si llegan a un sitio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reguntan a dónde llegan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uando caminan, cabalga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 lomos de mula viej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no conocen la pris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ni aun en los días de fiesta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onde hay vino, beben vino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onde no hay vino, agua fresca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Son buenas gentes que viven, laboran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3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00"/>
                                        <p:tgtEl>
                                          <p:spTgt spid="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00"/>
                                        <p:tgtEl>
                                          <p:spTgt spid="3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3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3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428480" y="357120"/>
            <a:ext cx="749772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ranscurso imparable de la vida; y la diversidad de modos de afrontarla. La búsqueda de la propia identidad y felici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su viaje por la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vida y por su interior no ha conseguido ser en plenitu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parecen experiencias negativas y positivas a lo largo de todo el poe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parecen metáforas, sinestesias, metonimias, hipérboles entre otras figuras retóric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572314"/>
                </a:solidFill>
                <a:latin typeface="Gill Sans MT"/>
              </a:rPr>
              <a:t>Genración del 98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86080" y="242892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Caracteristicas de esta generación y poema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de Campos de Castilla como ejempl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Bar dir="vert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642600"/>
            <a:ext cx="749952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accionan contra la retórica, el prosaísmo y la grandilocuencia de la literatura anterior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importa el contenido e intentan que éste llegue al lector de la manera más clara posibl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uidan la forma de su pros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cogen palabras que están en desuso y las incluyen en sus escrito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visión subjetiva (emotiva o intelectual), entonación lírica y sentiment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socian el paisaje al estado de ánim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Campos de Soria  V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523880"/>
            <a:ext cx="37800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¡Colinas plateada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grises alcores, cárdenas roqueda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or donde traza el Duer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su curva de ballest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n torno a Soria, obscuros encinare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riscos pedregales, calvas sierra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aminos blancos y álamos del río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tardes de Soria, mística y guerrer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oy siento por vosotros, en el fond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l corazón, tristez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tristeza que es amor! ¡Campos de Sori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onde parece que las rocas sueñan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onmigo vais! ¡Colinas plateadas, gris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lcores, cárdenas roquedas!.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071680" y="1523880"/>
            <a:ext cx="386244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Gill Sans MT"/>
              </a:rPr>
              <a:t>En este fragmento podemos encontrar diversas caracteristicas de esta generación, como la descripción de un paisaje y la de una prosa cuidada. Tambien aparece una entonación lirica y sentimental entre otras caracteristica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00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3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3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3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572314"/>
                </a:solidFill>
                <a:latin typeface="Gill Sans MT"/>
              </a:rPr>
              <a:t>Etapas de la poesía de   Machado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643200" y="3857400"/>
            <a:ext cx="5214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3000"/>
          </a:bodyPr>
          <a:p>
            <a:pPr marL="1440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Tres etapas diferentes que marcan su poesí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Ba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572314"/>
                </a:solidFill>
                <a:latin typeface="Gill Sans MT"/>
              </a:rPr>
              <a:t>Clasificación de los </a:t>
            </a:r>
            <a:br>
              <a:rPr sz="4000"/>
            </a:br>
            <a:r>
              <a:rPr b="1" i="1" lang="ca-ES" sz="4000" spc="-1" strike="noStrike">
                <a:solidFill>
                  <a:srgbClr val="572314"/>
                </a:solidFill>
                <a:latin typeface="Gill Sans MT"/>
              </a:rPr>
              <a:t>poemas de paisaj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57720" y="3071520"/>
            <a:ext cx="640080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Poema de ejemplo de cada grupo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acompañado por su justificació correspondi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Bar dir="vert"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Descripción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28480"/>
            <a:ext cx="37087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ca-ES" sz="1800" spc="-1" strike="noStrike">
                <a:solidFill>
                  <a:srgbClr val="000000"/>
                </a:solidFill>
                <a:latin typeface="Gill Sans MT"/>
              </a:rPr>
              <a:t>Campos de Soria VI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¡Colinas plateada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grises alcores, cárdenas roqueda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or donde traza el Duer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su curva de ballest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n torno a Soria, obscuros encinare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riscos pedregales, calvas sierra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aminos blancos y álamos del río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tardes de Soria, mística y guerrer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oy siento por vosotros, en el fond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l corazón, tristez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tristeza que es amor! ¡Campos d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Sori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onde parece que las rocas sueñan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onmigo vais! ¡Colinas plateadas, gris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lcores, cárdenas roquedas!..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071680" y="1523880"/>
            <a:ext cx="386244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Gill Sans MT"/>
              </a:rPr>
              <a:t>Este poema es una bella descripcion del paisaje de Soria con el que se identifica el auto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00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00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8" dur="500"/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500"/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00"/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500"/>
                                        <p:tgtEl>
                                          <p:spTgt spid="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500"/>
                                        <p:tgtEl>
                                          <p:spTgt spid="3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3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500"/>
                                        <p:tgtEl>
                                          <p:spTgt spid="3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500"/>
                                        <p:tgtEl>
                                          <p:spTgt spid="3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Impresión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ca-ES" sz="1800" spc="-1" strike="noStrike">
                <a:solidFill>
                  <a:srgbClr val="000000"/>
                </a:solidFill>
                <a:latin typeface="Gill Sans MT"/>
              </a:rPr>
              <a:t>Fue una clara tarde …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Fue una clara tarde, triste y soñolient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tarde de verano. La hiedra asomaba al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muro del parque, negra y polvorienta...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La fuente sonaba.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Rechinó en la vieja cancela mi llave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on agrio ruido abriendóse la puert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 hierro mohoso y, al cerrarse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grave golpeó el silencio de la tarde muerta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n el solitario parque, la sonora copi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borbollante del agua cantor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me guió a la fuente 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Este poema a partir de la contemplacion de un paisaje, al autor le producen una serie de conocimientos como la añoranza entre otr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6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1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500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6" dur="500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500"/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1" dur="500"/>
                                        <p:tgtEl>
                                          <p:spTgt spid="3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Proyección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34600" y="1523880"/>
            <a:ext cx="39942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ca-ES" sz="1700" spc="-1" strike="noStrike">
                <a:solidFill>
                  <a:srgbClr val="000000"/>
                </a:solidFill>
                <a:latin typeface="Gill Sans MT"/>
              </a:rPr>
              <a:t>El limonero lánguido suspende 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l limonero lánguido suspend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una pálida rama polvorient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sobre el encanto de la fuente limpi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allá en el fondo sueña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los frutos de oro..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s una tarde clar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asi de primaver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tibia tarde de marz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el hálito de abril cercano lleva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estoy solo, en el patio silencioso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buscando una ilusión cándida y vieja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lguna sombra sobre el blanco muro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lgún recuerdo, en el pretil de piedr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En este poema utiliza el paisaje como vinculo entre su estado de anim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9" dur="500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4" dur="500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4" dur="500"/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9" dur="500"/>
                                        <p:tgtEl>
                                          <p:spTgt spid="3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4" dur="500"/>
                                        <p:tgtEl>
                                          <p:spTgt spid="3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00"/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572314"/>
                </a:solidFill>
                <a:latin typeface="Gill Sans MT"/>
              </a:rPr>
              <a:t>Comparación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357720" y="250020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Comparación de dos poemas de la primera y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segunda etap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Bar dir="vert"/>
  </p:transition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428840" y="1428840"/>
            <a:ext cx="3357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Gill Sans MT"/>
              </a:rPr>
              <a:t>Pasan las horas de hastío…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asan las horas de hastí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or la estancia familiar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l amplio cuarto sombrí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onde yo empecé a soña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l reloj arrinconado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en la penumbra clare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l tictac acompasad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odiosamente golpe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ice la monotoní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l agua clara al caer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un día es como otro día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oy es lo mismo que aye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ae la tarde. El viento agit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928760" y="1500120"/>
            <a:ext cx="36435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Gill Sans MT"/>
              </a:rPr>
              <a:t>Orillas del Duer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300" spc="-1" strike="noStrike">
                <a:solidFill>
                  <a:srgbClr val="000000"/>
                </a:solidFill>
                <a:latin typeface="Gill Sans MT"/>
              </a:rPr>
              <a:t>¡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rimavera soriana, primaver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umilde, como el sueño de un bendito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 un pobre caminante que durmier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 cansancio en un páramo infinito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¡Campillo amarillento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omo tosco sayal de campesin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radera de velludo polvorient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onde pace la escuálida merina!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¡Aquellos diminuto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egujales de tierra dura y frí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onde apuntan centenos y trigal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el pan moreno nos darán un día!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12 CuadroTexto"/>
          <p:cNvSpPr/>
          <p:nvPr/>
        </p:nvSpPr>
        <p:spPr>
          <a:xfrm>
            <a:off x="1143000" y="78588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58d01"/>
                </a:solidFill>
                <a:latin typeface="Gill Sans MT"/>
              </a:rPr>
              <a:t>Primera etap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a-ES" sz="2800" spc="-1" strike="noStrike">
              <a:solidFill>
                <a:srgbClr val="c58d01"/>
              </a:solidFill>
              <a:latin typeface="Gill Sans MT"/>
            </a:endParaRPr>
          </a:p>
        </p:txBody>
      </p:sp>
      <p:sp>
        <p:nvSpPr>
          <p:cNvPr id="384" name="16 CuadroTexto"/>
          <p:cNvSpPr/>
          <p:nvPr/>
        </p:nvSpPr>
        <p:spPr>
          <a:xfrm>
            <a:off x="4643280" y="785880"/>
            <a:ext cx="32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58d01"/>
                </a:solidFill>
                <a:latin typeface="Gill Sans MT"/>
              </a:rPr>
              <a:t>Segunda etap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3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3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3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3" dur="500"/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8" dur="500"/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500"/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00"/>
                                        <p:tgtEl>
                                          <p:spTgt spid="3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500"/>
                                        <p:tgtEl>
                                          <p:spTgt spid="3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3" dur="500"/>
                                        <p:tgtEl>
                                          <p:spTgt spid="3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8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8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3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8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5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8" dur="500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500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500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500"/>
                                        <p:tgtEl>
                                          <p:spTgt spid="3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500"/>
                                        <p:tgtEl>
                                          <p:spTgt spid="3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3" dur="500"/>
                                        <p:tgtEl>
                                          <p:spTgt spid="3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3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500"/>
                                        <p:tgtEl>
                                          <p:spTgt spid="3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434960" y="642600"/>
            <a:ext cx="3657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En el primer poema podemos encontrar una poesía más intimista, mucho más emcion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Aparece ligeramente la añoranza por la juventut y por otro nla cercania de la muert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072040" y="642600"/>
            <a:ext cx="3657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En el segundo poema en cambio encontramos la descripción de los paisajes más próximos al autor, los cuales reflejan les emociones y el estado de ánimo del sentimient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572314"/>
                </a:solidFill>
                <a:latin typeface="Gill Sans MT"/>
              </a:rPr>
              <a:t>Simbologia de Machado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286080" y="2571480"/>
            <a:ext cx="640080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Destaca cinco simbolos, explicalos 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busca ejempl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Bar dir="vert"/>
  </p:transition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428480" y="428760"/>
            <a:ext cx="749772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los simbolos que utiliza Machado pueden tener diverses lecturas y significado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entre estos destaca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Gill Sans MT"/>
              </a:rPr>
              <a:t>paso del tiempo</a:t>
            </a: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: la infancia, el reloj, los caminos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Gill Sans MT"/>
              </a:rPr>
              <a:t>la monotomia</a:t>
            </a: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: la noria, el mundo infantil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Gill Sans MT"/>
              </a:rPr>
              <a:t>la muerte</a:t>
            </a: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: las campanas, los cementerios, los cipreses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Gill Sans MT"/>
              </a:rPr>
              <a:t>la vida: </a:t>
            </a: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los rios, el agua (cuando brota)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Gill Sans MT"/>
              </a:rPr>
              <a:t>poesias y poetas</a:t>
            </a: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: abejas (poetas), la miel (poemas)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3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Paso del tiemp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Gill Sans MT"/>
              </a:rPr>
              <a:t>Pasan las horas de hastío…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asan las </a:t>
            </a:r>
            <a:r>
              <a:rPr b="0" i="1" lang="es-ES" sz="1800" spc="-1" strike="noStrike">
                <a:solidFill>
                  <a:srgbClr val="c58d01"/>
                </a:solidFill>
                <a:latin typeface="Gill Sans MT"/>
              </a:rPr>
              <a:t>horas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de hastí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or la estancia familiar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l amplio cuarto sombrí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onde yo empecé a soña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l </a:t>
            </a:r>
            <a:r>
              <a:rPr b="0" i="1" lang="es-ES" sz="1800" spc="-1" strike="noStrike">
                <a:solidFill>
                  <a:srgbClr val="c58d01"/>
                </a:solidFill>
                <a:latin typeface="Gill Sans MT"/>
              </a:rPr>
              <a:t>reloj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arrinconado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en la penumbra clare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l tictac acompasad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odiosamente golpe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ice la monotoní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l </a:t>
            </a:r>
            <a:r>
              <a:rPr b="0" i="1" lang="es-ES" sz="1800" spc="-1" strike="noStrike">
                <a:solidFill>
                  <a:srgbClr val="c58d01"/>
                </a:solidFill>
                <a:latin typeface="Gill Sans MT"/>
              </a:rPr>
              <a:t>agua clara al caer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un día es como otro día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000760" y="1571760"/>
            <a:ext cx="40003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es-ES" sz="1800" spc="-1" strike="noStrike">
                <a:solidFill>
                  <a:srgbClr val="000000"/>
                </a:solidFill>
                <a:latin typeface="Gill Sans MT"/>
              </a:rPr>
              <a:t>Es una tarde cenicienta y </a:t>
            </a:r>
            <a:r>
              <a:rPr b="1" i="1" lang="es-ES" sz="1600" spc="-1" strike="noStrike">
                <a:solidFill>
                  <a:srgbClr val="000000"/>
                </a:solidFill>
                <a:latin typeface="Gill Sans MT"/>
              </a:rPr>
              <a:t>musti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s una </a:t>
            </a:r>
            <a:r>
              <a:rPr b="0" i="1" lang="es-ES" sz="1800" spc="-1" strike="noStrike">
                <a:solidFill>
                  <a:srgbClr val="c58d01"/>
                </a:solidFill>
                <a:latin typeface="Gill Sans MT"/>
              </a:rPr>
              <a:t>tarde 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enicienta y musti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startalada, como el alma mía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es esta vieja angusti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habita mi usual hipocondría.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La causa de esta angustia no consig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ni vagamente comprender siquiera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ero recuerdo y, recordando, digo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—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Sí, yo era niño, y tú, mi compañera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no es verdad, dolor, yo te conozco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tú eres nostalgia de la vida buen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soledad de corazón sombrío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 barco sin naufragio y sin estrella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omo perro olvidado que no tien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uella ni olfato y yerr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8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3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3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8" dur="5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3" dur="5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8" dur="500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3" dur="500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8" dur="500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500"/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8" dur="500"/>
                                        <p:tgtEl>
                                          <p:spTgt spid="3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3" dur="500"/>
                                        <p:tgtEl>
                                          <p:spTgt spid="3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8" dur="500"/>
                                        <p:tgtEl>
                                          <p:spTgt spid="3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3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3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3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3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3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3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3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Primera etap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i="1" lang="ca-ES" sz="3200" spc="-1" strike="noStrike">
                <a:solidFill>
                  <a:srgbClr val="000000"/>
                </a:solidFill>
                <a:latin typeface="Gill Sans MT"/>
              </a:rPr>
              <a:t>Soledades”</a:t>
            </a:r>
            <a:r>
              <a:rPr b="1" lang="ca-ES" sz="3200" spc="-1" strike="noStrike">
                <a:solidFill>
                  <a:srgbClr val="000000"/>
                </a:solidFill>
                <a:latin typeface="Gill Sans MT"/>
              </a:rPr>
              <a:t> (1902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destaca la emoción del momento y el sentido oculto de lo que le rode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hombre maduro que evoca la juventud perdida, es decir, añoranza de la niñez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temas que destacan: tiempo, soledad, muerte, paso del tiempo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ca-ES" sz="2800" spc="-1" strike="noStrike">
                <a:solidFill>
                  <a:srgbClr val="000000"/>
                </a:solidFill>
                <a:latin typeface="Gill Sans MT"/>
              </a:rPr>
              <a:t>Soledades, galerías y otros poemas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572314"/>
                </a:solidFill>
                <a:latin typeface="Gill Sans MT"/>
              </a:rPr>
              <a:t>Tema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214800" y="242892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Desarrolla un tema a través del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analisis de un poe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Bar dir="vert"/>
  </p:transition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La vida como camin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34960" y="1523520"/>
            <a:ext cx="3657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Gill Sans MT"/>
              </a:rPr>
              <a:t>He andado muchos caminos.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e andado muchos camino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e abierto muchas veredas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e navegado en cien mare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atracado en cien ribera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n todas partes he vist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aravanas de tristez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soberbios y melancólico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borrachos de sombra negr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pedantones al pañ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miran, callan, y piensa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saben, porque no bebe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l vino de las taberna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Mala gente que camin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va apestando la tierra..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786200" y="164304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Este poema es un claro ejemplo de como a tanscurrido su vida, la vida como un camino que llega a su fi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5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0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5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0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5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0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5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0" dur="500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5" dur="500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0" dur="500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5" dur="500"/>
                                        <p:tgtEl>
                                          <p:spTgt spid="3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500"/>
                                        <p:tgtEl>
                                          <p:spTgt spid="3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5" dur="500"/>
                                        <p:tgtEl>
                                          <p:spTgt spid="3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500"/>
                                        <p:tgtEl>
                                          <p:spTgt spid="3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5" dur="500"/>
                                        <p:tgtEl>
                                          <p:spTgt spid="3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0" dur="500"/>
                                        <p:tgtEl>
                                          <p:spTgt spid="3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2133720"/>
            <a:ext cx="81532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5000" spc="-1" strike="noStrike">
                <a:solidFill>
                  <a:srgbClr val="3b1d15"/>
                </a:solidFill>
                <a:latin typeface="Gill Sans MT"/>
              </a:rPr>
              <a:t>Fin!</a:t>
            </a:r>
            <a:endParaRPr b="0" lang="en-US" sz="15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dissolve/>
  </p:transition>
  <p:timing>
    <p:tnLst>
      <p:par>
        <p:cTn id="1757" dur="indefinite" restart="never" nodeType="tmRoot">
          <p:childTnLst>
            <p:seq>
              <p:cTn id="1758" dur="indefinite" nodeType="mainSeq">
                <p:childTnLst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62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Segunda etap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i="1" lang="ca-ES" sz="3200" spc="-1" strike="noStrike">
                <a:solidFill>
                  <a:srgbClr val="000000"/>
                </a:solidFill>
                <a:latin typeface="Gill Sans MT"/>
              </a:rPr>
              <a:t>Campos de Castilla” </a:t>
            </a:r>
            <a:r>
              <a:rPr b="1" lang="ca-ES" sz="3200" spc="-1" strike="noStrike">
                <a:solidFill>
                  <a:srgbClr val="000000"/>
                </a:solidFill>
                <a:latin typeface="Gill Sans MT"/>
              </a:rPr>
              <a:t>(1912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bandona el lenguaje modernista y preocupación por los temas del mundo exterio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el paisaje de Castilla cobra humanidad siendo un reflejo de las inquietudes del auto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su poesía tiene una mayor objetividad, sin perder el enfoque intimist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Tercera etap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i="1" lang="ca-ES" sz="3200" spc="-1" strike="noStrike">
                <a:solidFill>
                  <a:srgbClr val="000000"/>
                </a:solidFill>
                <a:latin typeface="Gill Sans MT"/>
              </a:rPr>
              <a:t>Nuevas Canciones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poesía profunda donde las ideas sustituyen al paisaj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esta es su obra más intimist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escribió teatro junto en a su hermano Manu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572314"/>
                </a:solidFill>
                <a:latin typeface="Gill Sans MT"/>
              </a:rPr>
              <a:t>Vocabulario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214800" y="3285720"/>
            <a:ext cx="6400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Significado de diez palabras de distintos poem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Bar dir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300" spc="-1" strike="noStrike">
                <a:solidFill>
                  <a:srgbClr val="572314"/>
                </a:solidFill>
                <a:latin typeface="Gill Sans MT"/>
              </a:rPr>
              <a:t>Campo de Sor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000000"/>
                </a:solidFill>
                <a:latin typeface="Gill Sans MT"/>
              </a:rPr>
              <a:t>VI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1900" spc="-1" strike="noStrike">
                <a:solidFill>
                  <a:srgbClr val="000000"/>
                </a:solidFill>
                <a:latin typeface="Gill Sans MT"/>
              </a:rPr>
              <a:t>¡</a:t>
            </a: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Colinas plateadas,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grises </a:t>
            </a:r>
            <a:r>
              <a:rPr b="0" i="1" lang="es-ES" sz="1700" spc="-1" strike="noStrike" u="sng">
                <a:solidFill>
                  <a:srgbClr val="2a6d7d"/>
                </a:solidFill>
                <a:uFillTx/>
                <a:latin typeface="Gill Sans MT"/>
              </a:rPr>
              <a:t>alcores,</a:t>
            </a:r>
            <a:r>
              <a:rPr b="0" i="1" lang="es-ES" sz="1700" spc="-1" strike="noStrike">
                <a:solidFill>
                  <a:srgbClr val="2a6d7d"/>
                </a:solidFill>
                <a:latin typeface="Gill Sans MT"/>
              </a:rPr>
              <a:t> </a:t>
            </a:r>
            <a:r>
              <a:rPr b="0" i="1" lang="es-ES" sz="1700" spc="-1" strike="noStrike" u="sng">
                <a:solidFill>
                  <a:srgbClr val="2a6d7d"/>
                </a:solidFill>
                <a:uFillTx/>
                <a:latin typeface="Gill Sans MT"/>
              </a:rPr>
              <a:t>cárdenas</a:t>
            </a:r>
            <a:r>
              <a:rPr b="0" i="1" lang="es-ES" sz="1700" spc="-1" strike="noStrike">
                <a:solidFill>
                  <a:srgbClr val="2a6d7d"/>
                </a:solidFill>
                <a:latin typeface="Gill Sans MT"/>
              </a:rPr>
              <a:t> </a:t>
            </a:r>
            <a:r>
              <a:rPr b="0" i="1" lang="es-ES" sz="1700" spc="-1" strike="noStrike" u="sng">
                <a:solidFill>
                  <a:srgbClr val="2a6d7d"/>
                </a:solidFill>
                <a:uFillTx/>
                <a:latin typeface="Gill Sans MT"/>
              </a:rPr>
              <a:t>roquedas</a:t>
            </a:r>
            <a:r>
              <a:rPr b="0" i="1" lang="es-ES" sz="1700" spc="-1" strike="noStrike">
                <a:solidFill>
                  <a:srgbClr val="2a6d7d"/>
                </a:solidFill>
                <a:latin typeface="Gill Sans M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por donde traza el Duero […]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9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19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 u="sng">
                <a:solidFill>
                  <a:srgbClr val="000000"/>
                </a:solidFill>
                <a:uFillTx/>
                <a:latin typeface="Gill Sans MT"/>
              </a:rPr>
              <a:t>alcores: </a:t>
            </a:r>
            <a:r>
              <a:rPr b="0" lang="ca-ES" sz="2000" spc="-1" strike="noStrike">
                <a:solidFill>
                  <a:srgbClr val="000000"/>
                </a:solidFill>
                <a:latin typeface="Gill Sans MT"/>
              </a:rPr>
              <a:t> colinas o collad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 u="sng">
                <a:solidFill>
                  <a:srgbClr val="000000"/>
                </a:solidFill>
                <a:uFillTx/>
                <a:latin typeface="Gill Sans MT"/>
              </a:rPr>
              <a:t>cárdenas:</a:t>
            </a:r>
            <a:r>
              <a:rPr b="0" lang="ca-ES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 color amoratad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 u="sng">
                <a:solidFill>
                  <a:srgbClr val="000000"/>
                </a:solidFill>
                <a:uFillTx/>
                <a:latin typeface="Gill Sans MT"/>
              </a:rPr>
              <a:t>roquedas:</a:t>
            </a:r>
            <a:r>
              <a:rPr b="0" lang="ca-ES" sz="2000" spc="-1" strike="noStrike">
                <a:solidFill>
                  <a:srgbClr val="000000"/>
                </a:solidFill>
                <a:latin typeface="Gill Sans MT"/>
              </a:rPr>
              <a:t>  lugar abundante de roc</a:t>
            </a:r>
            <a:r>
              <a:rPr b="0" lang="ca-ES" sz="2200" spc="-1" strike="noStrike">
                <a:solidFill>
                  <a:srgbClr val="000000"/>
                </a:solidFill>
                <a:latin typeface="Gill Sans MT"/>
              </a:rPr>
              <a:t>a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143680" y="150012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000000"/>
                </a:solidFill>
                <a:latin typeface="Gill Sans MT"/>
              </a:rPr>
              <a:t>VII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ca-ES" sz="1700" spc="-1" strike="noStrike">
                <a:solidFill>
                  <a:srgbClr val="000000"/>
                </a:solidFill>
                <a:latin typeface="Gill Sans MT"/>
              </a:rPr>
              <a:t>[...] </a:t>
            </a: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tras las murallas viejas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de Soria ?</a:t>
            </a:r>
            <a:r>
              <a:rPr b="0" i="1" lang="es-ES" sz="1700" spc="-1" strike="noStrike" u="sng">
                <a:solidFill>
                  <a:srgbClr val="2a6d7d"/>
                </a:solidFill>
                <a:uFillTx/>
                <a:latin typeface="Gill Sans MT"/>
              </a:rPr>
              <a:t>barbacana</a:t>
            </a: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hacia Aragón, en castellana tierra?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Estos </a:t>
            </a:r>
            <a:r>
              <a:rPr b="0" i="1" lang="es-ES" sz="1700" spc="-1" strike="noStrike" u="sng">
                <a:solidFill>
                  <a:srgbClr val="2a6d7d"/>
                </a:solidFill>
                <a:uFillTx/>
                <a:latin typeface="Gill Sans MT"/>
              </a:rPr>
              <a:t>chopos</a:t>
            </a: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 del río, que acompañan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con el sonido de sus hojas secas […]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 u="sng">
                <a:solidFill>
                  <a:srgbClr val="000000"/>
                </a:solidFill>
                <a:uFillTx/>
                <a:latin typeface="Gill Sans MT"/>
              </a:rPr>
              <a:t>barbacana: 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uro bajo con que se suelen rodear las plazuel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Gill Sans MT"/>
              </a:rPr>
              <a:t>chopos:  </a:t>
            </a:r>
            <a:r>
              <a:rPr b="0" lang="es-ES" sz="1900" spc="-1" strike="noStrike">
                <a:solidFill>
                  <a:srgbClr val="000000"/>
                </a:solidFill>
                <a:latin typeface="Gill Sans MT"/>
              </a:rPr>
              <a:t>nombre con el que se designan varias especies de álamo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He andado muchos caminos..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e andado muchos camino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e abierto muchas </a:t>
            </a:r>
            <a:r>
              <a:rPr b="0" i="1" lang="es-ES" sz="1800" spc="-1" strike="noStrike" u="sng">
                <a:solidFill>
                  <a:srgbClr val="2a6d7d"/>
                </a:solidFill>
                <a:uFillTx/>
                <a:latin typeface="Gill Sans MT"/>
              </a:rPr>
              <a:t>veredas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e navegado en cien mare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atracado en cien riberas. […]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Gill Sans MT"/>
              </a:rPr>
              <a:t>veradas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:  frent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[…] y </a:t>
            </a:r>
            <a:r>
              <a:rPr b="0" i="1" lang="es-ES" sz="1800" spc="-1" strike="noStrike" u="sng">
                <a:solidFill>
                  <a:srgbClr val="2a6d7d"/>
                </a:solidFill>
                <a:uFillTx/>
                <a:latin typeface="Gill Sans MT"/>
              </a:rPr>
              <a:t>pedantones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al pañ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miran, callan, y piensa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saben, porque no bebe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l vino de las tabernas. 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00"/>
                </a:solidFill>
                <a:uFillTx/>
                <a:latin typeface="Gill Sans MT"/>
              </a:rPr>
              <a:t>pedantones: </a:t>
            </a:r>
            <a:r>
              <a:rPr b="0" lang="ca-ES" sz="2200" spc="-1" strike="noStrike">
                <a:solidFill>
                  <a:srgbClr val="000000"/>
                </a:solidFill>
                <a:latin typeface="Gill Sans MT"/>
              </a:rPr>
              <a:t>no he encontrado ningún significado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756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i="1" lang="ca-ES" sz="3900" spc="-1" strike="noStrike">
                <a:solidFill>
                  <a:srgbClr val="572314"/>
                </a:solidFill>
                <a:latin typeface="Gill Sans MT"/>
              </a:rPr>
              <a:t>El limonero lánguido suspende …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523880"/>
            <a:ext cx="37800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l limonero </a:t>
            </a:r>
            <a:r>
              <a:rPr b="0" i="1" lang="es-ES" sz="1800" spc="-1" strike="noStrike" u="sng">
                <a:solidFill>
                  <a:srgbClr val="2a6d7d"/>
                </a:solidFill>
                <a:uFillTx/>
                <a:latin typeface="Gill Sans MT"/>
              </a:rPr>
              <a:t>lánguido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suspend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una pálida rama polvorient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sobre el encanto de la fuente limpi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allá en el fondo sueña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los frutos de oro..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s una tarde clar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asi de primaver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tibia tarde de marz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el </a:t>
            </a:r>
            <a:r>
              <a:rPr b="0" i="1" lang="es-ES" sz="1800" spc="-1" strike="noStrike" u="sng">
                <a:solidFill>
                  <a:srgbClr val="2a6d7d"/>
                </a:solidFill>
                <a:uFillTx/>
                <a:latin typeface="Gill Sans MT"/>
              </a:rPr>
              <a:t>hálito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de abril cercano lleva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estoy solo, en el patio silencioso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buscando una ilusión cándida y vieja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lguna sombra sobre el blanco muro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lgún recuerdo, en el </a:t>
            </a:r>
            <a:r>
              <a:rPr b="0" i="1" lang="es-ES" sz="1800" spc="-1" strike="noStrike" u="sng">
                <a:solidFill>
                  <a:srgbClr val="2a6d7d"/>
                </a:solidFill>
                <a:uFillTx/>
                <a:latin typeface="Gill Sans MT"/>
              </a:rPr>
              <a:t>pretil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de piedr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857840" y="150012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Gill Sans MT"/>
              </a:rPr>
              <a:t>lánguido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 poco espíritu,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lor o energí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00"/>
                </a:solidFill>
                <a:uFillTx/>
                <a:latin typeface="Gill Sans MT"/>
              </a:rPr>
              <a:t>hálito:</a:t>
            </a:r>
            <a:r>
              <a:rPr b="0" lang="ca-ES" sz="2200" spc="-1" strike="noStrike">
                <a:solidFill>
                  <a:srgbClr val="000000"/>
                </a:solidFill>
                <a:latin typeface="Gill Sans MT"/>
              </a:rPr>
              <a:t> aliento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Gill Sans MT"/>
              </a:rPr>
              <a:t>pretil: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urete o vallado de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iedra u otra materia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que se pone en lo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uentes y en otro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ugares para preservar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 caída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8:59:24Z</dcterms:created>
  <dc:creator>Nahi</dc:creator>
  <dc:description/>
  <dc:language>en-US</dc:language>
  <cp:lastModifiedBy>ELIANA</cp:lastModifiedBy>
  <dcterms:modified xsi:type="dcterms:W3CDTF">2009-02-20T22:46:01Z</dcterms:modified>
  <cp:revision>67</cp:revision>
  <dc:subject/>
  <dc:title>ANTONIO  MACHADO</dc:title>
</cp:coreProperties>
</file>